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C85D-025F-4DE2-97B5-DA65D700F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1252-A75C-411B-8EE3-A56CEB8C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8677C-AB8F-414B-B32B-49988749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11C2A-3D20-4680-8A8A-018E54A2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6F74C-32E9-4850-B6E1-ADFE76A7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974EA-9C62-48D2-AD4A-6D266BB4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949D0-0860-42E9-B3DD-72BB6533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71C0E-4CA1-4344-B2B4-1CB0C375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C2B79-D1A1-4CD5-A4CE-6F710418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3CBEB-A029-4443-824D-0366EB28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DE095-B94C-48D4-89E7-053BEDE6B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24D4A9-CC4A-4EA1-890D-F04B5885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84E2-7FA9-4522-96F5-C83DCB2AF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C5E8A-A6A6-457E-B385-10C6D5C7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F80B6-FC58-4838-A6B0-93583F40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952CB-5526-4AF4-94AE-5B71F982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E0AFC-C9CF-4984-89E5-651D0C00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07FFD-D0BE-42B8-A719-2D6AA67A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6932E9-8366-4276-AA70-1FE2B70A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CD05A-2727-4839-AF85-9CBA5019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85771-2CBF-47DB-9D4F-F1C60793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40AF7-568D-42FC-AC5E-151D3778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4A8AA-437C-4CED-822F-30F4059AB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ED92-E0FA-49B5-9B30-C2391E28E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4BA3D-AD78-4FF8-A964-6F9BA2F1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31066-6F73-4326-9305-1045DE89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FF400-F27F-4F2A-A652-243F22E7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F4FFD-A7EA-4CFF-BCA4-E2C0F295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C504E-65D9-4E01-B037-73F705F7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5D32E-E93F-499D-866A-F8A05DC8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470DA-A57A-4DA6-BDB6-EC674ECE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AA56C-C7B4-4AC2-B3D3-45B21DE8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C706F-4D1D-4AD4-98F2-C8B962BB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F2215-6ADB-4D59-B7F1-C85193D0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0F87-28A2-420B-9F37-F8E3BB37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FD3B7-679E-4CF7-869E-FEED549E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01E4E-1610-42A1-9D37-09D99088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CC0EF-42D8-4C61-9929-BD39A77C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575D8-7643-4C8A-B430-B40C11B04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772AD7-96A3-4872-97F9-CD65538D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FD732-B3AE-4F12-A781-AE3E7B71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81B8D-40CF-4564-9F96-E57E8D8F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C8B299-3EEA-47BC-BB58-AE828685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DA7CA3-54D7-472F-B6D9-8DB4B4F3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83257-1D88-4D0A-B8EF-1D87712A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F77A-AD5F-4645-8E3E-28C1F594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CFEE28-9F8C-431E-929E-264CD02F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A35D9-DED1-4DB2-8581-5A470900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48D80E-6063-466A-8CDF-BF86A876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A5D33E-E55C-4277-BABB-26E692636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A297A6-5D11-48DB-9126-EA1940547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EDAA34-1D70-44AF-BC46-65529CC9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3A0B8A-B650-4CA2-8562-F23DFCA5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69DD6F-464F-4013-A60E-7C9A149B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9A27A6-0D1E-4AAA-A95F-FD5870C0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30170B-B29C-4868-8C5E-6B1324BD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7D9A-30C8-4DDA-8861-39F35721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3C1600-D47D-41CC-8E64-1D2EDD99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33369D-2A33-4C98-AC61-15FC5DE2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0F3A01-329D-4F3B-82CD-DD6D9CC0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FC3BB1-FC6F-4C4D-A614-5262F59E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164A35-F893-42FF-9FD7-4FA3AE2E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6BB3FD-54C4-42DC-84B3-7D82F05B8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6F5991-8DEF-48C1-85CF-45302340C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DA8F3B-BFDC-4546-B9B5-3489AAE8F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F626C8-6F61-443B-A679-D5F40190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D17835-A982-43D1-B342-51CDA1D8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8297-254A-4DE3-A4C3-B312DFAF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045841-81E6-4D83-9EB0-D6B2FB88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B618B6-FD49-4E2B-AD7A-FBB43E7B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7D8824-7E60-4F0A-904E-D51DA136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6027EA-316F-438D-A3F9-3528FE3A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F59D6E-8F39-4660-8B44-6331AEAB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37C308-ECF1-470E-ADE1-3FAE7BE0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613F6F-3288-42A8-A01E-19D157A2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1203DB-CD4B-4005-80AE-1F0D9C1C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E3663C-0BFA-44A9-87C5-DB61DCDC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5FC5C8-1693-4DBB-9DC2-C49355D6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3DE2-1B6D-4220-B5C9-9FA8F0E4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861421-44DD-4EA7-8A9C-0ED43157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807508-D5A8-4774-A2B5-4BBDA176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8426CA-2DCD-4D8E-9E77-573CC290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DD9020-0166-41EB-8910-52BE1404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8085B4-A488-4D09-A97A-32024827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07BFC1-B853-4618-AF10-F812DE7B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60DB8F-A0ED-4CC0-B222-6CC1D3DA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0033BE-46B2-4577-9948-92FC1E79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AE5117-8AEE-4ECE-B531-55BB3A43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7FF3DD-06ED-435B-9466-A406804BA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FD5A-7BD6-4833-9315-371B8B6D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6AD4D2-B479-4609-A29E-F12EB8CFF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D2A0A5-D52F-4E45-B06F-2F81B03D3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95CF48-8CD4-49D6-9E65-F14D580B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0AE69A-E8DD-45B2-AF4C-A051367C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3F00D2-FD33-4F8D-8B4F-EC12B951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8E23BF-1A87-4CE7-BD5E-3A3E4259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C7D144-D6D1-4DEE-9299-8288857D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76095F-C355-4EF3-A71B-6F967662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8BF155-6C42-4FD9-81CB-2EA55284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BF2FBF-D925-44FD-9008-FD88D693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0A9E-95A5-4EF6-A120-B11C23DC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59E876-2748-4095-B990-7F98312B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085842-72A1-4B2D-B350-99F58F49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1131E6-CBD4-4E4A-9B44-EDAE40E1B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807CF5-4D11-42AC-A6E4-432DA9CA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EF8566-1852-48FB-A7A6-D488F90E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FB62B7-FC53-4441-B03F-15FFAD0B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4C1F9B-8ED0-4080-8984-7C291B07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9CA9C2-D370-4405-8CFF-26E3CABF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26E1A6-45FD-40E3-8E6E-B459945B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167F06-22D7-4134-A4EF-11BE95BF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494A-F91C-4505-8C88-B722EFED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D352-74BA-4EA9-B047-B725F744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F82962-FE76-4C7A-8A39-8BAE4C85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09AF6E-E18D-444C-8996-1E4ABEF8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0B7F1B-D66D-4E57-A851-8638CD10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E09947-F6C8-48C8-8727-8A48B6B36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69E52B-94C5-4E81-8392-EE559D013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A13A36-CA3B-45F2-A4A1-14608251F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F5ABA6-78AA-4D20-91CA-9A205BD2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6C1932-ED28-4188-9018-67965374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C35756-2D60-445E-A289-3D3CCFD5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DA03B2-775A-4537-8BFC-67E31C83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4669-F3CA-4F3D-9C31-8216922B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E5CD89-1A57-492F-9E3F-06E28AD3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07ACDF-A874-40BB-A48F-1F7BBFA7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E40163-29FF-4116-A3FF-91903F52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C8E20A-A660-4DA9-BE0C-7598B7D6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236BB1-7D4E-4083-ABF8-D643A1D8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7B39A6-6E84-4EB6-8D92-BBE0B38B9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087621-B7A5-46D2-B7A1-08F13F07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D7F842-72DD-45F7-9E8C-620D52A2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495CC6-0ADB-4231-A255-3D9E86A0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999C26-8A35-4B0E-834B-383192D6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4793-ACD7-4D92-9C9F-4C8DC665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41398F-78AD-4799-8C08-CE97FDEC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5495FD-8483-4D2D-8AA3-741C8A22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125567-711C-4B0C-A1C6-3042CD04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5A45D4-2178-4C2A-8B2A-49D27237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D1E9EA-457A-473F-BFEC-03598092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DB0316-812D-42D9-A9C7-A5D25C61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07B7E9-9AAB-4115-A909-E8CB826D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905A5B-550F-4CB5-8430-87B2FDA0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D0E435-B15A-4333-A253-34CFB978A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B56731-3F31-4C5B-AACF-63167987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2250-6178-4DFF-9935-3CD329F8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FD426B-5883-4B9D-9844-2AC22AD3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66A2A8-F266-4E00-8229-F0A2B597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34DE04-AC23-4C2B-AC46-15D3C951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0E4E7A-B8B3-4B6B-8125-74026CB8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52F430-56D2-4324-9989-8A573EB9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41762C-B4B7-426D-A4F5-351BF5C4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DC8EC4-B9F8-4345-8D33-7076C6BD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0E757E-D679-4BE2-9ACC-98B4B269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47EBF0-7AD7-4BE5-8488-B933623E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B7EAD6-7140-4123-810C-D7D7CE35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8A4A-A2FB-431C-BA32-7A06B08E0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AFB44F-0C68-487C-8862-B5DAA2B69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820F7C-568B-4367-A27E-6196C044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19A0C9-87E1-4BAD-8776-19A0B5E6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DE795C-13FA-42F2-A02D-B97CC58E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5083D5-BD57-447E-8DD9-C78FB722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896801-93DE-4D6D-849E-46CACE49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285F49-EB07-4F34-8A8F-704973D5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0D66A7-56E0-4D60-A18A-C8BA5045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91EACE-64C1-44A6-B1E2-7870B955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A8944C-9F6E-4328-87B3-D70E8F4B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43AEB-C72E-466D-9FC2-0066724D8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7D12F7-65A4-4035-B183-9ED33B31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22B6D5-E5AE-48A3-B707-6B67ADC93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8C9670-EEE5-4BB0-8697-EFF33211B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4FEE81-331A-417A-9111-3339A919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E6D8BF-FF88-45E0-AADE-422CB7B3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7F7990-44CE-4F42-B12F-88FB987D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38F345-BF02-488A-8836-A46B3294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569A51-D8B1-4B66-8DDB-43532FEF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515967-1237-4BCD-B982-E2638B02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C1E7B4-A5EA-4DF9-8E57-D9692421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24823-AECA-49EC-B25A-94B88CD5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02ACF3-28B3-4E94-ACE2-0D598873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6F28E6-6B6F-4AEA-85FC-8BA45F22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F202D6-629D-41DA-8E87-871CBD21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435D63-3ECF-4931-A940-EE0CD71F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96C0FB-DB2C-4A63-A18C-5AD26652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58B15A-A545-4EED-9D80-D66617B6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D2844B-E273-42C5-AF53-D8DB71D1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3A0FDB-BCF8-4313-8770-5C7242F7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4B0A3A-0891-4F59-8E62-6CB2EBAF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52B126-C44A-40F5-9230-E6588B89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B28C2-D925-4770-92B6-BEFBFD21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04350A-193D-46E5-AF62-7F457D89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3A7F89-2244-4756-87FC-007375E6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381052-49C6-438A-AF56-A386DF0E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7010DD-4D44-47B5-BFCD-AE64B469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9596CF-91D0-458B-B4D3-6C414663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15B90F-2990-4D42-BB2C-4B474D288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B08635-B164-4F2A-82CA-C9F72CE4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27FB8C-C39A-4173-9675-B90BF60D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64DD8F-0CE2-48E8-9EF7-F5C57752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2EF8CF-3A57-4661-AC3E-10CB8577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877DD-9449-4051-8CCB-E0FEDF95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9BC251-A38F-4562-B217-D739E504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DACFF9-B761-45FD-8F3E-B56E9C77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A18F6E-699A-488C-A1C4-D3F33E56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4FB1C7-55E3-4C7D-92EA-5E6D5827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6FFC1B-BB04-4E27-971E-54515AF3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9BA8C3-430D-42F1-8746-1A8DF561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0863AA-1BD7-4B3E-9037-57AC630A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14572F-1DCC-4173-A2F3-7D3D9AC0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8C5D9C-E24C-480C-86FE-749D2365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737E361-9BF9-44C5-94B7-E2D75D537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A2C7F-6F72-430A-82AE-42857D9B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0BB430-A7F9-472A-B531-47C5DDD0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5881471-5CEE-4802-9071-2B8D7820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CB3B4C-649C-40C7-B04F-BABC0D1C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71C554-60D5-4025-9DF6-C75D3E8C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704693-0CB6-40EA-AACD-737CC6FD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64C17C-2A9E-4DBA-B015-08AED483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91C52B-89AF-436B-BD8A-A9FC0E95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5D0CEA-FCAC-4BED-A55E-253954A4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8A6119-A7CA-4CC1-9F2D-2A2965A8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B7816C-FB7C-4A4B-A730-A235C71E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0289-3B0D-495A-A212-B54AAE86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A3F1E-01D6-415F-9908-4AFED3CA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499C73-760E-417F-B074-5B5E78DB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BCAAF34-43C3-4D71-B542-7AB928E9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C7E8C3-63D6-4C19-8101-2C397166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3FFDDC2-ABA9-45E6-AFC5-479029C1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79B1AE-D948-412A-86F0-9DD394A8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97326D-6B60-4A8B-A7BC-A96C1679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C1EC26-CE91-469E-887B-E0D18DAA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A70418-51D1-475A-BE72-4ECB66E5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C168B74-23DA-4DB1-8C2E-17455CBC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82FF68-2FFC-4B7F-9BFD-FCBF6EBF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B1A4F-A5A8-4012-8B39-260DFABA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68013E-78E1-4436-8E56-C09C18FA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AF0CF2-7379-4DDF-B021-0C86BCC1D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41726E-DFCC-4E42-9E06-23819E208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5993C89-50A3-4AF7-8BA3-AFE392B4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01CBEE3-5B2E-4F12-8933-81409AC0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09D5AE-5383-44AD-8BC7-FD4D0BCA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1BC52B-821B-44B5-AFDE-4A15D82E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A7F907-637E-4036-91DC-06723F5B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B2DEAF-DBC9-45E8-8BBE-8E30A700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A60441-50C7-47B7-9B42-987FF288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A7EDA-28C6-4AA3-90EF-97AEE09D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F50C222-B766-492A-92BA-51F5CB31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A447AB-CD59-41ED-B8BD-0C33C257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EB9948-0E1C-4BA4-8FF3-AABFBA04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36CC9B9-8844-49F2-AE58-54D62866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AEAF37-6DD0-48A2-A858-EC3E208A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2690BB-828E-4FF4-94C9-777705D20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95C6B2-4640-42A8-B881-3E717787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3D5651-CB4B-462D-8C71-65121C93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58E85E-2210-4152-AB23-3BD5B03B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B57F6B-91E0-4713-A0D6-E6033FA1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06A4B-2DE1-4A06-9E6B-29F6507A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4D6157-2CD3-4FA9-9258-C86352F4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03C567A-B11E-418C-BB64-BE231BE5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6F8B390-2623-4250-B24C-0BA7F89F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1AFDF8A-E5C6-4B8A-8DC2-3D57B498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526C0B-6D18-40AD-AD24-DFBBBA6A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08CC3F-EF18-41C2-9934-47BB68367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A22F16-77B9-4FD0-AEDA-900FA12C0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FC1F710-EB3B-4FDE-80D9-0935724C3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5858861-561D-4548-A505-03699D9D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BA9CFCF-D6B7-4C3F-906F-28ACBF0C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EF984-0049-43C6-A643-C0DE5B06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2F7BCEE-1FCD-42E0-8141-A3CB3B2B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D31B7A8-33AE-4A97-B328-71589572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2BCCB39-1B79-4704-988E-D06B0B88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B776DF0-B9F4-4374-8F31-C7892F9F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D05E0B8-E577-4521-A9E4-C5658826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8CDA769-377F-42BC-BF81-0629582D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53DDABD-87D3-47DF-9B32-8DA7F784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BD64B83-55E6-49B1-BDCA-F159FB32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AF116B7-D4EA-4B5D-9289-53596828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87C8A69-F089-45CD-9FA0-5C3A7C7B6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45BE3-17D5-4B8C-A6E7-EBF76B86B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09C0D26-9490-4C6A-B691-C036F0F0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78FE84C-1347-4A91-9B6D-6CB4A199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ADB578-11FF-4A85-B2E2-0C1396E4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38AE61-FB47-47CE-959F-40A25D24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2E2450F-1077-4C24-ADBB-0A8ACB44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7ABDB32-13C3-4FDA-A80D-2DFB1939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5163BBD-8042-45DD-8EBD-264C3851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AE30379-A828-41DC-A9BA-A921FEF8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0B7D585-0F7B-4145-9844-5E1EB38C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40D6EB-CEC3-47ED-934F-E0C3DE21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29C0E-3CE0-4E7E-B30B-4C44ABC48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9D878D3-0508-4BCD-9D18-C074417B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84CC891-E8A4-4A37-9D4C-860D72AA5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A3C0EC4-B728-41A5-B808-41979191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37D744B-B3A6-49B1-B82F-16D59208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90D3907-D240-4671-BB70-A2877752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34601E1-AA63-4171-B5A9-E7473AB8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9CFEFE8-2ABC-4E91-B398-733F3069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592C8A3-E528-4189-9450-8E0E26E9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06EB1DE-38FE-4831-8C5E-6786BB71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5FC8ACD-FAA2-4BF5-A55C-2977F44D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9D0D1-F6FF-4EB1-8FA9-35B7DA80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F863B26-F40B-4079-BBFE-AF68456F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303BE38-8FFE-40B0-8F81-87005231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BAF77FD-2DEA-4B99-B244-CF9BBD6C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A59DE-2248-4847-B03A-A8FA8BAA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8941B-5FE9-476C-913D-80C5DF63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2902-CC15-4FA5-ABA8-E92EEE96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5338B-1103-450B-B28D-FA93EFD4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8D122-44BD-49B1-9A71-501B898A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244E8-8FD9-4961-99F4-B3FEFE67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235FF-BFD6-4879-B585-3A82D4E2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4B7F1-3FE3-4F79-9B47-062F57B7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BB823-5BED-4765-B629-113688E3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1D8F2-E951-4BD9-A2E0-96BF0948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215BF-9B10-472A-B29B-DE26C8D2B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8CEB6-78C1-4A17-B057-07CB0C15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CD02C-83F6-4329-8864-34C3A2460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D021-B228-4A69-AF15-D60E000C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425B7-9B81-4D91-8408-D2E4934F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904DB-161F-4C99-8BC0-4F081D2C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87033-4CCA-4F8A-889F-8C5985C6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054EB-0C1E-4892-8506-899EF938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FCE60-658E-4656-8692-F4DAEF85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FB34C-04F1-43F8-9A74-DE03BE04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DE330-E842-4062-A1B1-1F55504A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B3643-F74D-4EA1-85C7-736C9D25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9CC64-5DBD-4718-B29F-A672C512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70D10-9E68-4367-8F3B-4C6DC2C9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308B-55CF-45FD-A718-CBDD1439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E6291-1DB9-4106-9874-535270FB4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3C7DF-D7A3-48F4-B50B-76D125048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FFFD5-A539-4286-A080-C2D4EE0E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464EA-CE67-4837-B49F-E1B8F94A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36422-CA80-4D5F-AC00-7AC3579D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D51F7-6D02-4445-B51D-2659D01A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1D0F3-B2E3-4857-9E28-AE1409D9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F7223-6379-439D-B47B-E041AAB6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6026C-43AE-4F1C-B2A8-A3F04D84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8B2C3-DAD3-4542-8746-0FC5E6D4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B0EB-13D1-4661-AA9B-116CEBF4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8D3B5-BC40-446F-AED1-7F3F1CAA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02348-3864-4EDE-A109-8C7D609F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87450-51DD-4D2D-AC95-76C1CED9F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D9529-4D62-4B06-BFA9-39EADD6A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DDB36-60F7-4414-9ADB-C2A90A79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65BB3-1E09-45BD-982D-4AE09784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A08A0-1B6C-48E1-8291-A47FE1EE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60EEF-9B6F-4C3F-BCA8-9CFB7D08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4196D-4E0A-4E3D-82FA-C5A6FFB0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E961C-36DC-4D39-BC3B-B5032253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1161-A81C-45B7-A542-4FC14BD9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53505-652D-429F-B109-EFBF0B41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810DD-9674-47AD-82AB-7B46270F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75028-30AD-475B-9192-0DDF3A42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E7A23-A9D3-421D-BBC3-0978F1873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7A11B-025D-4B79-B47C-963CD652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46012-EBCA-4B01-AB11-FC1EB40B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04989-38D8-4F0B-BD46-0BEA1DF0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608F9-5692-49B2-9E18-90F4A271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64D36-C516-43CA-ABF1-1506694D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5F4B1-0DEF-4289-BCB9-539640E5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EBB6-A7D2-4627-8768-CD0377DB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6B162-0C81-4046-A26C-783E3041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1DAC2-137F-4FD0-ABB1-DB75D171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053F3-17D8-4736-8348-96592D89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6C471-9D12-4169-A365-449CC07F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AEA13-7301-4C1E-9635-CF2EBB50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0A630-98B0-4908-B206-B5B1236B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0ACD6-21C1-4ED5-8BB9-B34133219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4DC2C-3E6E-4737-9D88-D1D1C56B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C8255-2F93-4A30-9790-A939DDF3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E22C7-53A1-4CA1-9E46-0DB790F4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9AE7-95E6-4F46-856A-7F0EF7EBE3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F635-3295-4104-A5B3-CBB2ED07B7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76F8-81FF-4320-B056-FFA4C21B9C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2AB0-90DE-4ED2-9459-50E8D5BAA6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45C1-FB4C-4002-BA91-7BFDA9F1CF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46E4-B523-4F25-A1E3-7C469E55A8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F28A-67DE-4E04-957B-581EEAAE6A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C3F3-3BF2-4950-85A8-E8835B4528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60B1-AB19-4D3F-8551-C432EF0F59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071A-05EA-4940-A133-7C81CB854E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C4C0-C02B-4B62-9C36-DA64B8FDE9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83A8-C1EB-42F8-A0A9-9343CBBA2B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B75D-68EB-4F14-96B5-F33C5CDB8F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E3BC-7F01-4531-BBED-E28E1759F8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8528-D20A-46FD-A84B-B8D7BD17C4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61AA-60E0-4C6C-96F3-A91159EC07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8A6F-4503-4CEC-89EE-5B4E8F3A3F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F0DE-111E-4F28-A055-C409A03646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19E2-0486-42C0-8839-33F3FDDC46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FFE8-E151-4A07-A551-BDB622F718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3DD2-5451-49CC-AE41-00A85A19ED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182B-46AD-4179-99B8-E3C3B5F1CF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1000-313E-4657-85CC-1FC18DA004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B122-D606-40D7-A731-4A3669C9FD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1AFF-47C4-4312-929E-3537C864DC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8225-0FFF-4AA4-ADB2-B541F9A9C9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1554-1842-48FF-97EC-75187459DC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93BE-4798-4EE3-B2EA-B8EB434BCB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808A-8460-46F4-AF5E-6C48C9698B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C19A-079A-4BFC-A752-5C0EAF7899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6533-3BF8-448A-B568-A50C26AE63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FE62-417E-4DF6-90C4-7E16C8028F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C17A-C079-4533-AE2C-F0859E2A82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C679-9CD9-4203-B3D2-CCCB78CADD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1BA6-32DF-45C8-A2FF-B65B27B87F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3C07-6A8D-45A1-9F2D-2C68F3EE9C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CE3C-540C-4BB2-A761-4F697687C0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8DF9-DE51-4660-8FE4-2EEB1BA0FE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B1B4-9AB1-4240-9377-4671F33ABF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AD0B-CACF-4F73-82F3-3B868CFD6F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98D3-768C-4C0A-9BCD-E587938F14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6F0E-C70B-4A4E-8C22-A6FB220425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907E-E36D-4654-9C00-B952C14C3E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D786-2487-4734-89E5-5D87504368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4844-A378-4EF1-8AB9-7E0EDA6B65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1D6E-F1E3-4D3F-B805-74910365E3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B0E9-B680-4DB8-B660-1ECA2793B3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D14D-E95E-4F25-90E5-E834E1B140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5814-0A20-40D0-9CDE-F67C0B4575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0DD8-C6E1-47A4-8972-EBD447D00F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3429000" cy="89532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2" descr=""/>
          <p:cNvPicPr/>
          <p:nvPr/>
        </p:nvPicPr>
        <p:blipFill>
          <a:blip r:embed="rId2"/>
          <a:stretch/>
        </p:blipFill>
        <p:spPr>
          <a:xfrm>
            <a:off x="2340000" y="2637000"/>
            <a:ext cx="3571920" cy="761760"/>
          </a:xfrm>
          <a:prstGeom prst="rect">
            <a:avLst/>
          </a:prstGeom>
          <a:ln w="0">
            <a:noFill/>
          </a:ln>
        </p:spPr>
      </p:pic>
      <p:pic>
        <p:nvPicPr>
          <p:cNvPr id="1434" name="图片 28683" descr=""/>
          <p:cNvPicPr/>
          <p:nvPr/>
        </p:nvPicPr>
        <p:blipFill>
          <a:blip r:embed="rId3"/>
          <a:stretch/>
        </p:blipFill>
        <p:spPr>
          <a:xfrm>
            <a:off x="1619280" y="4076640"/>
            <a:ext cx="54388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116737" descr=""/>
          <p:cNvPicPr/>
          <p:nvPr/>
        </p:nvPicPr>
        <p:blipFill>
          <a:blip r:embed="rId1"/>
          <a:stretch/>
        </p:blipFill>
        <p:spPr>
          <a:xfrm>
            <a:off x="352440" y="2228760"/>
            <a:ext cx="843912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图片 115713" descr=""/>
          <p:cNvPicPr/>
          <p:nvPr/>
        </p:nvPicPr>
        <p:blipFill>
          <a:blip r:embed="rId1"/>
          <a:stretch/>
        </p:blipFill>
        <p:spPr>
          <a:xfrm>
            <a:off x="695160" y="2057400"/>
            <a:ext cx="7753680" cy="2743200"/>
          </a:xfrm>
          <a:prstGeom prst="rect">
            <a:avLst/>
          </a:prstGeom>
          <a:ln w="0">
            <a:noFill/>
          </a:ln>
        </p:spPr>
      </p:pic>
      <p:sp>
        <p:nvSpPr>
          <p:cNvPr id="1463" name="矩形 115714"/>
          <p:cNvSpPr/>
          <p:nvPr/>
        </p:nvSpPr>
        <p:spPr>
          <a:xfrm>
            <a:off x="1370160" y="2637000"/>
            <a:ext cx="704520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115715"/>
          <p:cNvSpPr/>
          <p:nvPr/>
        </p:nvSpPr>
        <p:spPr>
          <a:xfrm>
            <a:off x="1427040" y="3170160"/>
            <a:ext cx="704556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115716"/>
          <p:cNvSpPr/>
          <p:nvPr/>
        </p:nvSpPr>
        <p:spPr>
          <a:xfrm>
            <a:off x="1436760" y="3684600"/>
            <a:ext cx="704520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115717"/>
          <p:cNvSpPr/>
          <p:nvPr/>
        </p:nvSpPr>
        <p:spPr>
          <a:xfrm>
            <a:off x="1398600" y="4237200"/>
            <a:ext cx="704520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114689" descr=""/>
          <p:cNvPicPr/>
          <p:nvPr/>
        </p:nvPicPr>
        <p:blipFill>
          <a:blip r:embed="rId1"/>
          <a:stretch/>
        </p:blipFill>
        <p:spPr>
          <a:xfrm>
            <a:off x="714240" y="1257480"/>
            <a:ext cx="7715520" cy="4343400"/>
          </a:xfrm>
          <a:prstGeom prst="rect">
            <a:avLst/>
          </a:prstGeom>
          <a:ln w="0">
            <a:noFill/>
          </a:ln>
        </p:spPr>
      </p:pic>
      <p:sp>
        <p:nvSpPr>
          <p:cNvPr id="1468" name="矩形 114690"/>
          <p:cNvSpPr/>
          <p:nvPr/>
        </p:nvSpPr>
        <p:spPr>
          <a:xfrm>
            <a:off x="1322280" y="2408400"/>
            <a:ext cx="706464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114691"/>
          <p:cNvSpPr/>
          <p:nvPr/>
        </p:nvSpPr>
        <p:spPr>
          <a:xfrm>
            <a:off x="1332000" y="2960640"/>
            <a:ext cx="706428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14692"/>
          <p:cNvSpPr/>
          <p:nvPr/>
        </p:nvSpPr>
        <p:spPr>
          <a:xfrm>
            <a:off x="1332000" y="3494160"/>
            <a:ext cx="706428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14693"/>
          <p:cNvSpPr/>
          <p:nvPr/>
        </p:nvSpPr>
        <p:spPr>
          <a:xfrm>
            <a:off x="1303200" y="4027320"/>
            <a:ext cx="7064640" cy="4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114694"/>
          <p:cNvSpPr/>
          <p:nvPr/>
        </p:nvSpPr>
        <p:spPr>
          <a:xfrm>
            <a:off x="1332000" y="4551480"/>
            <a:ext cx="706428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114695"/>
          <p:cNvSpPr/>
          <p:nvPr/>
        </p:nvSpPr>
        <p:spPr>
          <a:xfrm>
            <a:off x="1303200" y="5075280"/>
            <a:ext cx="706464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4" name="图片 113665" descr=""/>
          <p:cNvPicPr/>
          <p:nvPr/>
        </p:nvPicPr>
        <p:blipFill>
          <a:blip r:embed="rId1"/>
          <a:stretch/>
        </p:blipFill>
        <p:spPr>
          <a:xfrm>
            <a:off x="933480" y="1814400"/>
            <a:ext cx="7277040" cy="3229200"/>
          </a:xfrm>
          <a:prstGeom prst="rect">
            <a:avLst/>
          </a:prstGeom>
          <a:ln w="0">
            <a:noFill/>
          </a:ln>
        </p:spPr>
      </p:pic>
      <p:sp>
        <p:nvSpPr>
          <p:cNvPr id="1475" name="矩形 113666"/>
          <p:cNvSpPr/>
          <p:nvPr/>
        </p:nvSpPr>
        <p:spPr>
          <a:xfrm>
            <a:off x="1131840" y="1846440"/>
            <a:ext cx="695952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113667"/>
          <p:cNvSpPr/>
          <p:nvPr/>
        </p:nvSpPr>
        <p:spPr>
          <a:xfrm>
            <a:off x="1131840" y="2389320"/>
            <a:ext cx="695952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13668"/>
          <p:cNvSpPr/>
          <p:nvPr/>
        </p:nvSpPr>
        <p:spPr>
          <a:xfrm>
            <a:off x="1160640" y="2922480"/>
            <a:ext cx="695952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113669"/>
          <p:cNvSpPr/>
          <p:nvPr/>
        </p:nvSpPr>
        <p:spPr>
          <a:xfrm>
            <a:off x="1150920" y="3446640"/>
            <a:ext cx="695952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113670"/>
          <p:cNvSpPr/>
          <p:nvPr/>
        </p:nvSpPr>
        <p:spPr>
          <a:xfrm>
            <a:off x="1150920" y="3989520"/>
            <a:ext cx="695952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13671"/>
          <p:cNvSpPr/>
          <p:nvPr/>
        </p:nvSpPr>
        <p:spPr>
          <a:xfrm flipH="1">
            <a:off x="1080360" y="4513320"/>
            <a:ext cx="128916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1" name="图片 112641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7705800" cy="5772240"/>
          </a:xfrm>
          <a:prstGeom prst="rect">
            <a:avLst/>
          </a:prstGeom>
          <a:ln w="0">
            <a:noFill/>
          </a:ln>
        </p:spPr>
      </p:pic>
      <p:sp>
        <p:nvSpPr>
          <p:cNvPr id="1482" name="矩形 112642"/>
          <p:cNvSpPr/>
          <p:nvPr/>
        </p:nvSpPr>
        <p:spPr>
          <a:xfrm>
            <a:off x="1150920" y="1932120"/>
            <a:ext cx="700740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112643"/>
          <p:cNvSpPr/>
          <p:nvPr/>
        </p:nvSpPr>
        <p:spPr>
          <a:xfrm>
            <a:off x="1160640" y="2455920"/>
            <a:ext cx="70070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112644"/>
          <p:cNvSpPr/>
          <p:nvPr/>
        </p:nvSpPr>
        <p:spPr>
          <a:xfrm>
            <a:off x="1084320" y="3008160"/>
            <a:ext cx="70070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112645"/>
          <p:cNvSpPr/>
          <p:nvPr/>
        </p:nvSpPr>
        <p:spPr>
          <a:xfrm>
            <a:off x="1141560" y="3541680"/>
            <a:ext cx="70070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112646"/>
          <p:cNvSpPr/>
          <p:nvPr/>
        </p:nvSpPr>
        <p:spPr>
          <a:xfrm>
            <a:off x="1189080" y="4065480"/>
            <a:ext cx="70070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112647"/>
          <p:cNvSpPr/>
          <p:nvPr/>
        </p:nvSpPr>
        <p:spPr>
          <a:xfrm>
            <a:off x="1141560" y="4599000"/>
            <a:ext cx="70070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112648"/>
          <p:cNvSpPr/>
          <p:nvPr/>
        </p:nvSpPr>
        <p:spPr>
          <a:xfrm>
            <a:off x="1084320" y="5132520"/>
            <a:ext cx="700704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112649"/>
          <p:cNvSpPr/>
          <p:nvPr/>
        </p:nvSpPr>
        <p:spPr>
          <a:xfrm>
            <a:off x="1141560" y="5665680"/>
            <a:ext cx="70070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112650"/>
          <p:cNvSpPr/>
          <p:nvPr/>
        </p:nvSpPr>
        <p:spPr>
          <a:xfrm>
            <a:off x="1160640" y="6180120"/>
            <a:ext cx="70070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1" name="图片 111617" descr=""/>
          <p:cNvPicPr/>
          <p:nvPr/>
        </p:nvPicPr>
        <p:blipFill>
          <a:blip r:embed="rId1"/>
          <a:stretch/>
        </p:blipFill>
        <p:spPr>
          <a:xfrm>
            <a:off x="1052640" y="1076400"/>
            <a:ext cx="703872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2" name="图片 110593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200800" cy="1104840"/>
          </a:xfrm>
          <a:prstGeom prst="rect">
            <a:avLst/>
          </a:prstGeom>
          <a:ln w="0">
            <a:noFill/>
          </a:ln>
        </p:spPr>
      </p:pic>
      <p:pic>
        <p:nvPicPr>
          <p:cNvPr id="1493" name="图片 110594" descr=""/>
          <p:cNvPicPr/>
          <p:nvPr/>
        </p:nvPicPr>
        <p:blipFill>
          <a:blip r:embed="rId2"/>
          <a:stretch/>
        </p:blipFill>
        <p:spPr>
          <a:xfrm>
            <a:off x="324000" y="2205000"/>
            <a:ext cx="8134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4" name="图片 109569" descr=""/>
          <p:cNvPicPr/>
          <p:nvPr/>
        </p:nvPicPr>
        <p:blipFill>
          <a:blip r:embed="rId1"/>
          <a:stretch/>
        </p:blipFill>
        <p:spPr>
          <a:xfrm>
            <a:off x="495360" y="2309760"/>
            <a:ext cx="8153280" cy="2238480"/>
          </a:xfrm>
          <a:prstGeom prst="rect">
            <a:avLst/>
          </a:prstGeom>
          <a:ln w="0">
            <a:noFill/>
          </a:ln>
        </p:spPr>
      </p:pic>
      <p:sp>
        <p:nvSpPr>
          <p:cNvPr id="1495" name="矩形 109570"/>
          <p:cNvSpPr/>
          <p:nvPr/>
        </p:nvSpPr>
        <p:spPr>
          <a:xfrm>
            <a:off x="1008000" y="2979720"/>
            <a:ext cx="752148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109571"/>
          <p:cNvSpPr/>
          <p:nvPr/>
        </p:nvSpPr>
        <p:spPr>
          <a:xfrm>
            <a:off x="1046160" y="3503520"/>
            <a:ext cx="752148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109572"/>
          <p:cNvSpPr/>
          <p:nvPr/>
        </p:nvSpPr>
        <p:spPr>
          <a:xfrm>
            <a:off x="969840" y="4037040"/>
            <a:ext cx="75218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8" name="图片 108545" descr=""/>
          <p:cNvPicPr/>
          <p:nvPr/>
        </p:nvPicPr>
        <p:blipFill>
          <a:blip r:embed="rId1"/>
          <a:stretch/>
        </p:blipFill>
        <p:spPr>
          <a:xfrm>
            <a:off x="433440" y="1528920"/>
            <a:ext cx="8277120" cy="3800160"/>
          </a:xfrm>
          <a:prstGeom prst="rect">
            <a:avLst/>
          </a:prstGeom>
          <a:ln w="0">
            <a:noFill/>
          </a:ln>
        </p:spPr>
      </p:pic>
      <p:sp>
        <p:nvSpPr>
          <p:cNvPr id="1499" name="矩形 108546"/>
          <p:cNvSpPr/>
          <p:nvPr/>
        </p:nvSpPr>
        <p:spPr>
          <a:xfrm>
            <a:off x="1027080" y="3303720"/>
            <a:ext cx="749304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矩形 108547"/>
          <p:cNvSpPr/>
          <p:nvPr/>
        </p:nvSpPr>
        <p:spPr>
          <a:xfrm>
            <a:off x="1055520" y="3827520"/>
            <a:ext cx="74930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矩形 108548"/>
          <p:cNvSpPr/>
          <p:nvPr/>
        </p:nvSpPr>
        <p:spPr>
          <a:xfrm>
            <a:off x="1046160" y="4361040"/>
            <a:ext cx="749304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矩形 108549"/>
          <p:cNvSpPr/>
          <p:nvPr/>
        </p:nvSpPr>
        <p:spPr>
          <a:xfrm>
            <a:off x="1027080" y="4894200"/>
            <a:ext cx="74930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3" name="图片 107521" descr=""/>
          <p:cNvPicPr/>
          <p:nvPr/>
        </p:nvPicPr>
        <p:blipFill>
          <a:blip r:embed="rId1"/>
          <a:stretch/>
        </p:blipFill>
        <p:spPr>
          <a:xfrm>
            <a:off x="619200" y="1809720"/>
            <a:ext cx="7905600" cy="3238560"/>
          </a:xfrm>
          <a:prstGeom prst="rect">
            <a:avLst/>
          </a:prstGeom>
          <a:ln w="0">
            <a:noFill/>
          </a:ln>
        </p:spPr>
      </p:pic>
      <p:sp>
        <p:nvSpPr>
          <p:cNvPr id="1504" name="矩形 107522"/>
          <p:cNvSpPr/>
          <p:nvPr/>
        </p:nvSpPr>
        <p:spPr>
          <a:xfrm>
            <a:off x="817560" y="1913040"/>
            <a:ext cx="754056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矩形 107523"/>
          <p:cNvSpPr/>
          <p:nvPr/>
        </p:nvSpPr>
        <p:spPr>
          <a:xfrm>
            <a:off x="855720" y="2465280"/>
            <a:ext cx="754056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矩形 107524"/>
          <p:cNvSpPr/>
          <p:nvPr/>
        </p:nvSpPr>
        <p:spPr>
          <a:xfrm>
            <a:off x="846000" y="2970360"/>
            <a:ext cx="754092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矩形 107525"/>
          <p:cNvSpPr/>
          <p:nvPr/>
        </p:nvSpPr>
        <p:spPr>
          <a:xfrm>
            <a:off x="836640" y="3513240"/>
            <a:ext cx="754056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矩形 107526"/>
          <p:cNvSpPr/>
          <p:nvPr/>
        </p:nvSpPr>
        <p:spPr>
          <a:xfrm>
            <a:off x="855720" y="4056120"/>
            <a:ext cx="754056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矩形 107527"/>
          <p:cNvSpPr/>
          <p:nvPr/>
        </p:nvSpPr>
        <p:spPr>
          <a:xfrm>
            <a:off x="846000" y="4570560"/>
            <a:ext cx="754092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4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9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4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124929" descr=""/>
          <p:cNvPicPr/>
          <p:nvPr/>
        </p:nvPicPr>
        <p:blipFill>
          <a:blip r:embed="rId1"/>
          <a:stretch/>
        </p:blipFill>
        <p:spPr>
          <a:xfrm>
            <a:off x="328680" y="1533600"/>
            <a:ext cx="8486640" cy="3790800"/>
          </a:xfrm>
          <a:prstGeom prst="rect">
            <a:avLst/>
          </a:prstGeom>
          <a:ln w="0">
            <a:noFill/>
          </a:ln>
        </p:spPr>
      </p:pic>
      <p:sp>
        <p:nvSpPr>
          <p:cNvPr id="1436" name="矩形 124930"/>
          <p:cNvSpPr/>
          <p:nvPr/>
        </p:nvSpPr>
        <p:spPr>
          <a:xfrm>
            <a:off x="7837560" y="2722680"/>
            <a:ext cx="67320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1"/>
          <p:cNvSpPr/>
          <p:nvPr/>
        </p:nvSpPr>
        <p:spPr>
          <a:xfrm>
            <a:off x="7824960" y="3471840"/>
            <a:ext cx="67284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4932"/>
          <p:cNvSpPr/>
          <p:nvPr/>
        </p:nvSpPr>
        <p:spPr>
          <a:xfrm>
            <a:off x="1906560" y="4592520"/>
            <a:ext cx="104472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4933"/>
          <p:cNvSpPr/>
          <p:nvPr/>
        </p:nvSpPr>
        <p:spPr>
          <a:xfrm>
            <a:off x="7437600" y="4979880"/>
            <a:ext cx="67284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0" name="图片 106497" descr=""/>
          <p:cNvPicPr/>
          <p:nvPr/>
        </p:nvPicPr>
        <p:blipFill>
          <a:blip r:embed="rId1"/>
          <a:stretch/>
        </p:blipFill>
        <p:spPr>
          <a:xfrm>
            <a:off x="419040" y="1295280"/>
            <a:ext cx="8305920" cy="4267440"/>
          </a:xfrm>
          <a:prstGeom prst="rect">
            <a:avLst/>
          </a:prstGeom>
          <a:ln w="0">
            <a:noFill/>
          </a:ln>
        </p:spPr>
      </p:pic>
      <p:sp>
        <p:nvSpPr>
          <p:cNvPr id="1511" name="矩形 106498"/>
          <p:cNvSpPr/>
          <p:nvPr/>
        </p:nvSpPr>
        <p:spPr>
          <a:xfrm>
            <a:off x="960480" y="2465280"/>
            <a:ext cx="759780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矩形 106499"/>
          <p:cNvSpPr/>
          <p:nvPr/>
        </p:nvSpPr>
        <p:spPr>
          <a:xfrm>
            <a:off x="941400" y="2998800"/>
            <a:ext cx="7597800" cy="412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矩形 106500"/>
          <p:cNvSpPr/>
          <p:nvPr/>
        </p:nvSpPr>
        <p:spPr>
          <a:xfrm>
            <a:off x="1008000" y="3532320"/>
            <a:ext cx="7597800" cy="412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矩形 106501"/>
          <p:cNvSpPr/>
          <p:nvPr/>
        </p:nvSpPr>
        <p:spPr>
          <a:xfrm>
            <a:off x="1017720" y="4075200"/>
            <a:ext cx="7597800" cy="412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矩形 106502"/>
          <p:cNvSpPr/>
          <p:nvPr/>
        </p:nvSpPr>
        <p:spPr>
          <a:xfrm>
            <a:off x="988920" y="4579920"/>
            <a:ext cx="759780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矩形 106503"/>
          <p:cNvSpPr/>
          <p:nvPr/>
        </p:nvSpPr>
        <p:spPr>
          <a:xfrm>
            <a:off x="979560" y="5122800"/>
            <a:ext cx="759780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1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6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1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6" dur="1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1" dur="1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6" dur="1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0" name="图片 123905" descr=""/>
          <p:cNvPicPr/>
          <p:nvPr/>
        </p:nvPicPr>
        <p:blipFill>
          <a:blip r:embed="rId1"/>
          <a:stretch/>
        </p:blipFill>
        <p:spPr>
          <a:xfrm>
            <a:off x="299880" y="1728720"/>
            <a:ext cx="8544240" cy="3400560"/>
          </a:xfrm>
          <a:prstGeom prst="rect">
            <a:avLst/>
          </a:prstGeom>
          <a:ln w="0">
            <a:noFill/>
          </a:ln>
        </p:spPr>
      </p:pic>
      <p:sp>
        <p:nvSpPr>
          <p:cNvPr id="1441" name="矩形 123906"/>
          <p:cNvSpPr/>
          <p:nvPr/>
        </p:nvSpPr>
        <p:spPr>
          <a:xfrm>
            <a:off x="5675400" y="2160720"/>
            <a:ext cx="116820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3907"/>
          <p:cNvSpPr/>
          <p:nvPr/>
        </p:nvSpPr>
        <p:spPr>
          <a:xfrm>
            <a:off x="1214280" y="2538360"/>
            <a:ext cx="116856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3908"/>
          <p:cNvSpPr/>
          <p:nvPr/>
        </p:nvSpPr>
        <p:spPr>
          <a:xfrm>
            <a:off x="4164120" y="2916360"/>
            <a:ext cx="112068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123909"/>
          <p:cNvSpPr/>
          <p:nvPr/>
        </p:nvSpPr>
        <p:spPr>
          <a:xfrm>
            <a:off x="3255840" y="3656160"/>
            <a:ext cx="105408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123910"/>
          <p:cNvSpPr/>
          <p:nvPr/>
        </p:nvSpPr>
        <p:spPr>
          <a:xfrm>
            <a:off x="1262160" y="4786200"/>
            <a:ext cx="138744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图片 122881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562960" cy="3848400"/>
          </a:xfrm>
          <a:prstGeom prst="rect">
            <a:avLst/>
          </a:prstGeom>
          <a:ln w="0">
            <a:noFill/>
          </a:ln>
        </p:spPr>
      </p:pic>
      <p:pic>
        <p:nvPicPr>
          <p:cNvPr id="1447" name="图片 122882" descr=""/>
          <p:cNvPicPr/>
          <p:nvPr/>
        </p:nvPicPr>
        <p:blipFill>
          <a:blip r:embed="rId2"/>
          <a:stretch/>
        </p:blipFill>
        <p:spPr>
          <a:xfrm>
            <a:off x="250920" y="5013360"/>
            <a:ext cx="8477280" cy="1400040"/>
          </a:xfrm>
          <a:prstGeom prst="rect">
            <a:avLst/>
          </a:prstGeom>
          <a:ln w="0">
            <a:noFill/>
          </a:ln>
        </p:spPr>
      </p:pic>
      <p:sp>
        <p:nvSpPr>
          <p:cNvPr id="1448" name="矩形 122883"/>
          <p:cNvSpPr/>
          <p:nvPr/>
        </p:nvSpPr>
        <p:spPr>
          <a:xfrm>
            <a:off x="8094600" y="2951280"/>
            <a:ext cx="36828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122884"/>
          <p:cNvSpPr/>
          <p:nvPr/>
        </p:nvSpPr>
        <p:spPr>
          <a:xfrm>
            <a:off x="8120160" y="5367240"/>
            <a:ext cx="36828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图片 121857" descr=""/>
          <p:cNvPicPr/>
          <p:nvPr/>
        </p:nvPicPr>
        <p:blipFill>
          <a:blip r:embed="rId1"/>
          <a:stretch/>
        </p:blipFill>
        <p:spPr>
          <a:xfrm>
            <a:off x="352440" y="2266920"/>
            <a:ext cx="8439120" cy="2324160"/>
          </a:xfrm>
          <a:prstGeom prst="rect">
            <a:avLst/>
          </a:prstGeom>
          <a:ln w="0">
            <a:noFill/>
          </a:ln>
        </p:spPr>
      </p:pic>
      <p:sp>
        <p:nvSpPr>
          <p:cNvPr id="1451" name="矩形 121858"/>
          <p:cNvSpPr/>
          <p:nvPr/>
        </p:nvSpPr>
        <p:spPr>
          <a:xfrm>
            <a:off x="8199360" y="3494160"/>
            <a:ext cx="36828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图片 120833" descr=""/>
          <p:cNvPicPr/>
          <p:nvPr/>
        </p:nvPicPr>
        <p:blipFill>
          <a:blip r:embed="rId1"/>
          <a:stretch/>
        </p:blipFill>
        <p:spPr>
          <a:xfrm>
            <a:off x="352440" y="1614600"/>
            <a:ext cx="8439120" cy="3628800"/>
          </a:xfrm>
          <a:prstGeom prst="rect">
            <a:avLst/>
          </a:prstGeom>
          <a:ln w="0">
            <a:noFill/>
          </a:ln>
        </p:spPr>
      </p:pic>
      <p:sp>
        <p:nvSpPr>
          <p:cNvPr id="1453" name="矩形 120834"/>
          <p:cNvSpPr/>
          <p:nvPr/>
        </p:nvSpPr>
        <p:spPr>
          <a:xfrm>
            <a:off x="8180280" y="3341520"/>
            <a:ext cx="36828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图片 119809" descr=""/>
          <p:cNvPicPr/>
          <p:nvPr/>
        </p:nvPicPr>
        <p:blipFill>
          <a:blip r:embed="rId1"/>
          <a:stretch/>
        </p:blipFill>
        <p:spPr>
          <a:xfrm>
            <a:off x="366840" y="1028880"/>
            <a:ext cx="8410320" cy="4800600"/>
          </a:xfrm>
          <a:prstGeom prst="rect">
            <a:avLst/>
          </a:prstGeom>
          <a:ln w="0">
            <a:noFill/>
          </a:ln>
        </p:spPr>
      </p:pic>
      <p:sp>
        <p:nvSpPr>
          <p:cNvPr id="1455" name="矩形 119810"/>
          <p:cNvSpPr/>
          <p:nvPr/>
        </p:nvSpPr>
        <p:spPr>
          <a:xfrm>
            <a:off x="8199360" y="1046160"/>
            <a:ext cx="36828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119811"/>
          <p:cNvSpPr/>
          <p:nvPr/>
        </p:nvSpPr>
        <p:spPr>
          <a:xfrm>
            <a:off x="8158320" y="3843360"/>
            <a:ext cx="36828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图片 118785" descr=""/>
          <p:cNvPicPr/>
          <p:nvPr/>
        </p:nvPicPr>
        <p:blipFill>
          <a:blip r:embed="rId1"/>
          <a:stretch/>
        </p:blipFill>
        <p:spPr>
          <a:xfrm>
            <a:off x="361800" y="2038320"/>
            <a:ext cx="8420400" cy="2781360"/>
          </a:xfrm>
          <a:prstGeom prst="rect">
            <a:avLst/>
          </a:prstGeom>
          <a:ln w="0">
            <a:noFill/>
          </a:ln>
        </p:spPr>
      </p:pic>
      <p:sp>
        <p:nvSpPr>
          <p:cNvPr id="1458" name="矩形 118786"/>
          <p:cNvSpPr/>
          <p:nvPr/>
        </p:nvSpPr>
        <p:spPr>
          <a:xfrm>
            <a:off x="8161200" y="2922480"/>
            <a:ext cx="36828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9" name="图片 117761" descr=""/>
          <p:cNvPicPr/>
          <p:nvPr/>
        </p:nvPicPr>
        <p:blipFill>
          <a:blip r:embed="rId1"/>
          <a:stretch/>
        </p:blipFill>
        <p:spPr>
          <a:xfrm>
            <a:off x="333360" y="1800360"/>
            <a:ext cx="8477280" cy="3257280"/>
          </a:xfrm>
          <a:prstGeom prst="rect">
            <a:avLst/>
          </a:prstGeom>
          <a:ln w="0">
            <a:noFill/>
          </a:ln>
        </p:spPr>
      </p:pic>
      <p:sp>
        <p:nvSpPr>
          <p:cNvPr id="1460" name="矩形 117762"/>
          <p:cNvSpPr/>
          <p:nvPr/>
        </p:nvSpPr>
        <p:spPr>
          <a:xfrm>
            <a:off x="8123400" y="3046320"/>
            <a:ext cx="36828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14T01:22:34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